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E1AD1-65EB-4FAE-BED0-0532287A1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646CD-0711-459A-84C1-F03F16DD9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23D1B-A771-4ED2-8527-5AFCB6932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CF103-606F-47AB-8E13-B1A2DAD1A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49C38-302E-4FB3-8AC9-7973D1B54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D1838-71B8-4AA1-83E0-D8FEE2D7A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A8789-724F-4A68-9357-02261A3C9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C77A8-1583-4CB7-9687-9785D16A5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AD158-B89A-465A-A375-7AA670B1A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2C32A-9D28-4975-ADCC-562F865AD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797E3-E037-413D-9E0A-98BF779D9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DF88C-C317-4996-8C38-29CF66AB9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CFD11-B5E6-47F8-929D-9135747B0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F0BEC-7D1E-46AC-8497-69F3E8A36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B6441-6A47-4793-B1B3-77330A287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9F04F-2087-47F3-97D3-C096AED15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84B47-5CEC-4B89-B680-770DAC44D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502BC-BEED-4AE7-A568-0984C7BD2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C926C-64D1-44AB-8296-19CBCECEC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0435B-B2A3-4D51-BD6D-4846F15B8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E1E0-8837-4846-8747-4958CAF14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0892-9614-419F-950E-BA1E929B4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E2341-3C68-4230-8527-A97C48B01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DA115-9A7C-4DE4-95BF-FDAF5DAC9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AAD4-977C-45AF-890F-93D6A27F7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6CB2-BDE5-4DBE-B04E-BF083C7C21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llying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id Lopez</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87FA-820A-4098-B115-FA25E08D8815}" type="datetime2">
              <a:rPr b="0" lang="en-US" sz="3200" spc="-1" strike="noStrike">
                <a:solidFill>
                  <a:srgbClr val="ffffff"/>
                </a:solidFill>
                <a:latin typeface="Times New Roman"/>
              </a:rPr>
              <a:t>Thursday, July 30,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my movie tell the reader that bullying is happening at school everyday and somehow bullying needs to be stopped way way bullying can be stopped is telling the teacher or taking a st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y to personalize the pitch.</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great story tell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ee act structure </a:t>
            </a:r>
            <a:r>
              <a:rPr b="0" lang="en-US" sz="2800" spc="-1" strike="noStrike">
                <a:solidFill>
                  <a:srgbClr val="ffffff"/>
                </a:solidFill>
                <a:latin typeface="Times New Roman"/>
              </a:rPr>
              <a:t>is very familiar for fiction.</a:t>
            </a:r>
            <a:endParaRPr b="0" lang="en-US" sz="28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 A kid gets bullied in the beginning of the movie and and getting his feelings hur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 later another kid see the the kid that was getting bullied and goes tell a teacher.</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I: when tells the teacher they both go where the boy is getting bullied, then the bullying stop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how you make money:  who will see your movi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ill your movie be special and differen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ill make money by asking my friends, and my family and I think my movie might be special and different by letting my friends and my family know that bullying can be a problem, and we can stop it by taking a stand and telling a teac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20:50:12Z</dcterms:created>
  <dc:creator/>
  <dc:description/>
  <dc:language>en-US</dc:language>
  <cp:lastModifiedBy>City School</cp:lastModifiedBy>
  <dcterms:modified xsi:type="dcterms:W3CDTF">2013-02-19T21:27:03Z</dcterms:modified>
  <cp:revision>39</cp:revision>
  <dc:subject/>
  <dc:title>The Pitch-Then-Plan Business Planning Template</dc:title>
</cp:coreProperties>
</file>